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0.wmf" ContentType="image/x-wmf"/>
  <Override PartName="/ppt/media/image4.jpeg" ContentType="image/jpeg"/>
  <Override PartName="/ppt/media/image9.jpeg" ContentType="image/jpeg"/>
  <Override PartName="/ppt/media/image11.jpeg" ContentType="image/jpeg"/>
  <Override PartName="/ppt/media/image8.wmf" ContentType="image/x-wmf"/>
  <Override PartName="/ppt/media/image12.wmf" ContentType="image/x-wmf"/>
  <Override PartName="/ppt/media/image19.wmf" ContentType="image/x-wmf"/>
  <Override PartName="/ppt/media/image18.jpeg" ContentType="image/jpeg"/>
  <Override PartName="/ppt/media/image6.wmf" ContentType="image/x-wmf"/>
  <Override PartName="/ppt/media/image17.jpeg" ContentType="image/jpeg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20.wmf" ContentType="image/x-wmf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471E6-E59D-4F7B-9831-FEADFD0F9C0F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жим дн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современного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школьник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к биологии в 8 класс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втор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нилова Ю.В., учитель биоло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У«Средняя общеобразовательная школа №1» муниципального образования «Островский район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.Остров. Псковская обла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ежим дня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современного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школьника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урок биологии в 8 классе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Автор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Данилова Ю.В., учитель биологи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МОУ«Средняя общеобразовательная школа №1» муниципального образования «Островский район»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г.Остров. Псковская область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2008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жим дня школьника [7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ежим дня школьника [7]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игиенические нормативы продолжительности основных видов деятельности школьников в сутки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в астрономических часах) [8]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Гигиенические нормативы продолжительности основных видов деятельности школьников в сутки 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(в астрономических часах) [8]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кст №4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Прочитайте  текст учебной статьи с.188-189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Составьте рекомендации для школьников как правильно организовать режим дня. Запишите в тетрад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Текст №4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1. Прочитайте  текст учебной статьи с.188-189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2.Составьте рекомендации для школьников как правильно организовать режим дня. Запишите в тетрадь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ведение итогов работы групп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ставитель от каждой группы знакомит одноклассников с результатами работы групп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одведение итогов работы групп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редставитель от каждой группы знакомит одноклассников с результатами работы группы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понен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жима дн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кольн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быва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свеж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дух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прогулк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еба в школе и до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грова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ятельност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интерес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дых по интерес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чная гигие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ит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мощь по дом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Основные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компоненты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ежима дн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школьник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он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ребывание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на свежем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оздухе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(прогулки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учеба в школе и дом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игровая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деятельность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о интересам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отдых по интересам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личная гигиен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итание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омощь по дому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ильн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ованный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режим дн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е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терес к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ебно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ятельност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собству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рмальном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вити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бен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храняе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доровь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е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вное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др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строе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терес к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ворческо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ятельност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равильно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организованный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режим дн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оздает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интерес к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учебной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деятельности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пособствует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нормальному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азвитию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ебенка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охраняет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здоровье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оздает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овное,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бодрое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настроение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оздает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интерес к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творческой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деятельности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рационально организованный режим приводит к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нижени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тоспособност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ерж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ста 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рмально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вит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витию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томления 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утомле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Нерационально организованный режим приводит к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нижению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аботоспособности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Задержке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оста и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нормального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азвития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азвитию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утомления 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ереутомления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правильно организовать режим дн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Выполняйте утреннюю гимнастику, которая облегчает переход от сна к бодрствованию, позволяет организму активно включиться в работу Физические упражнения, занятия спортом укрепляют  здоровье, улучшение физическое развитие, повышают сопротивляемость организма, воспитывают волю, дисциплинированност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Правильное питание основа нормального физического и нервно-психического развития. Наш организм нуждается в поступлении пищевых веществ в определенном ритме. Утренний завтрак должен быть обязательны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Соблюдайте гигиену учебной деятельности дома: вернувшись из школы, пообедайте и обязательно отдохнит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Начинайте выполнение домашнего задания с наименее тяжёлых предметов, переходя к более сложным. Делайте перерыв через каждый час занятий в течение 15—20 мину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Правильно организуйте свое рабочее мест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  Готовьте уроки в день получения задания, что значительно сокращает время на врабатывание и восстановление полученных на уроках свед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. В течение дня необходимо чередование различных видов активности, в первую очередь — умственной и физической. Смена видов деятельности снимает усталость и способствует восстановлению работоспособ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Как правильно организовать режим дня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1. Выполняйте утреннюю гимнастику, которая облегчает переход от сна к бодрствованию, позволяет организму активно включиться в работу Физические упражнения, занятия спортом укрепляют  здоровье, улучшение физическое развитие, повышают сопротивляемость организма, воспитывают волю, дисциплинированность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2. Правильное питание основа нормального физического и нервно-психического развития. Наш организм нуждается в поступлении пищевых веществ в определенном ритме. Утренний завтрак должен быть обязательным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3.Соблюдайте гигиену учебной деятельности дома: вернувшись из школы, пообедайте и обязательно отдохните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4. Начинайте выполнение домашнего задания с наименее тяжёлых предметов, переходя к более сложным. Делайте перерыв через каждый час занятий в течение 15—20 минут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5. Правильно организуйте свое рабочее место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6.  Готовьте уроки в день получения задания, что значительно сокращает время на врабатывание и восстановление полученных на уроках сведений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7. В течение дня необходимо чередование различных видов активности, в первую очередь — умственной и физической. Смена видов деятельности снимает усталость и способствует восстановлению работоспособности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. Не тратьте времени понапрасну, будьте точными в своих обещаниях. Не планируйте на один день много мероприят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.Чрезвычайно важно ежедневно бывать на свежем воздухе. Это могут быть прогулки, игры на свежем воздухе, физические упражнения. Их рекомендуется проводить в конце рабочего дня для восстановления работоспособности. Спокойные прогулки перед сном могут способствовать более быстрому наступлению полноценного с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. Ужинать необходимо не позднее, чем за 1,5-2 ч до с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1. Сон  один из главных компонентов режима дня.  Перед сном  исключите умственную работу, возбуждающие игры и просмотр напряженных фильмов. Отходу ко сну должны предшествовать процедуры вечернего туале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2. Привычка ложится спать и вставать в одно и тоже время способствует быстрому засыпанию и своевременному пробуждению. Выспавшийся школьник лучше воспринимает учебную информацию, объяснения учителей на уроке, быстрее справляется с приготовлением уроков, его работоспособность выш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3. Рационально используйте дневные часы, не экономить время за счет сн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4. Обратите внимание на гигиену с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8. Не тратьте времени понапрасну, будьте точными в своих обещаниях. Не планируйте на один день много мероприятий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9.Чрезвычайно важно ежедневно бывать на свежем воздухе. Это могут быть прогулки, игры на свежем воздухе, физические упражнения. Их рекомендуется проводить в конце рабочего дня для восстановления работоспособности. Спокойные прогулки перед сном могут способствовать более быстрому наступлению полноценного сна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10. Ужинать необходимо не позднее, чем за 1,5-2 ч до сна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11. Сон  один из главных компонентов режима дня.  Перед сном  исключите умственную работу, возбуждающие игры и просмотр напряженных фильмов. Отходу ко сну должны предшествовать процедуры вечернего туалета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12. Привычка ложится спать и вставать в одно и тоже время способствует быстрому засыпанию и своевременному пробуждению. Выспавшийся школьник лучше воспринимает учебную информацию, объяснения учителей на уроке, быстрее справляется с приготовлением уроков, его работоспособность выше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13. Рационально используйте дневные часы, не экономить время за счет сна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14. Обратите внимание на гигиену сна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Закрепление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режиме дня школьника должны быть предусмотрены следующие основные компоненты: 1) учебные занятия в периоды подъема работоспособности в школе и дома; 2) отдых с максимальным пребыванием на открытом воздухе; 3) регулярное и достаточное питание; 4) гигиенически полноценный сон. Кроме того, в режиме дня должно быть отведено время для свободных занятий по собственному выбору (чтение, занятие музыкой, рисованием и другой творческой деятельностью, спорт, самообслуживание, помощь семье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ционально построенный режим  способствует оптимальной работоспособности, предупреждает утомление, укрепляет здоровь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ализ анкетирования учащих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3. Закрепление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 режиме дня школьника должны быть предусмотрены следующие основные компоненты: 1) учебные занятия в периоды подъема работоспособности в школе и дома; 2) отдых с максимальным пребыванием на открытом воздухе; 3) регулярное и достаточное питание; 4) гигиенически полноценный сон. Кроме того, в режиме дня должно быть отведено время для свободных занятий по собственному выбору (чтение, занятие музыкой, рисованием и другой творческой деятельностью, спорт, самообслуживание, помощь семье)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ационально построенный режим  способствует оптимальной работоспособности, предупреждает утомление, укрепляет здоровье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Анализ анкетирования учащихся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ь учебного заня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яснить значение режима дня для поддержания здоровья и работоспособн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Цель учебного заняти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ыяснить значение режима дня для поддержания здоровья и работоспособности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зультаты исследова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ы анкеты «Мой режим дня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Выполняете ли вы утром физическую зарядку?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всегда;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иногда;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 никог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Завтракаете ли вы утром?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всегда;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иногда;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 никогд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В какое время вы обычно учите урок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сразу, как прихожу из школы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отдыхаю и только потом начинаю делать урок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 обедаю и сажусь за уро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Сколько времени вы затрачиваете на приготовление домашних заданий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до 1 час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1 - 2 час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 2 -3 час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) 3 -4 ча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Делаете ли вы перерывы при выполнении домашнего задания?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всегда;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иногда;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 никог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 Вы ложитесь спа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в 21-22.00;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в 22-23.00;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 после 23.0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.Как часто вы просыпаетесь не выспавшись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всегда;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иногда;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 никог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. Сколько часов в день вы смотрите телевизор?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1 - 2 часа;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3- 4 часа;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 все свободное врем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. Как обычно вы проводите воскресный день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смотрю телевизор, играю в компьютерные игр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слоняюсь по дому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 гуляю, занимаюсь спорто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) другое (укажите что именно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.Как часто вы стараетесь спланировать свой ден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всегд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иногда;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 никог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езультаты исследования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опросы анкеты «Мой режим дня»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1. Выполняете ли вы утром физическую зарядку?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а) всегда; 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б) иногда;   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) никогда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2. Завтракаете ли вы утром?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а) всегда; 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б) иногда;   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) никогда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3. В какое время вы обычно учите уроки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а) сразу, как прихожу из школы;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б) отдыхаю и только потом начинаю делать уроки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) обедаю и сажусь за уроки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4. Сколько времени вы затрачиваете на приготовление домашних заданий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а) до 1 часа;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б) 1 - 2 часа;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) 2 -3 часа;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г) 3 -4 час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5. Делаете ли вы перерывы при выполнении домашнего задания?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а) всегда;  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б) иногда;  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) никогда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6. Вы ложитесь спать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а) в 21-22.00;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б) в 22-23.00; 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) после 23.00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7.Как часто вы просыпаетесь не выспавшись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а) всегда;     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б) иногда;        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) никогда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8. Сколько часов в день вы смотрите телевизор?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а) 1 - 2 часа;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б) 3- 4 часа;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) все свободное время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9. Как обычно вы проводите воскресный день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а) смотрю телевизор, играю в компьютерные игры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б) слоняюсь по дому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) гуляю, занимаюсь спортом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г) другое (укажите что именно)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10.Как часто вы стараетесь спланировать свой день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а) всегда;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б) иногда;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) никогда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вигательная активность как компонент режима дня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легчает переход от сна к бодрствованию, позволяет организму активно включиться в работу утренняя заряд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Двигательная активность как компонент режима дня.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Облегчает переход от сна к бодрствованию, позволяет организму активно включиться в работу утренняя зарядка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ильное питание основа нормального физического и нервно-психического развития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втрак - обязательный компонент режима дня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равильное питание основа нормального физического и нервно-психического развития. 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Завтрак - обязательный компонент режима дня. 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чий день школьника состоит из занятий в школе и приготовления уроков дом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абочий день школьника состоит из занятий в школе и приготовления уроков дома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ободное время школьников может быть отведено занятиям в кружках, спортивных секциях, клубах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вободное время школьников может быть отведено занятиям в кружках, спортивных секциях, клубах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жим дня - это режим жизн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огий режим — распорядок дня — является предпосылкой для высокой трудоспособности, крепкого здоровья и хорошего самочувств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ежим дня - это режим жизни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трогий режим — распорядок дня — является предпосылкой для высокой трудоспособности, крепкого здоровья и хорошего самочувствия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тоги урока. Домашнее зад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ставление оценок учителем в журнал, их аргументац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читать §6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авить свой распорядок дн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делать наблюдение за состоянием своего здоровья, умственной активности при правильно организованном режиме дня. Сделать вывод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Итоги урока. Домашнее задание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ыставление оценок учителем в журнал, их аргументация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рочитать §61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оставить свой распорядок дня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роделать наблюдение за состоянием своего здоровья, умственной активности при правильно организованном режиме дня. Сделать выводы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терату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Здоровье:  Учебно - методическое  пособие  для учителей   1-11 классов / Под редакцией В.Н.Касаткина, Л.А.Щеплягиной. Ярославль: Аверс Пресс, 200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Колесов Д. В., Маш Р. Д. Основы гигиены и санитарии: Учеб. пособие для 9—10 кл. сред. шк.: Факультатив. курс.- М.: Просвещение, 1989.— 192 с: и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Коростелев Н. Б.     Шаг за шагом: Твой календарь здоровья.— М.: Мол. гвардия, 1984.— 95 с., и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Козлов В. И. Береги   здоровье   смолоду. — М.: Физкультура    и     спорт, 1987. —32 с., и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Ленюшкин А. И., Буров И. С.     Мальчику-подростку. — М.:  Медицина,  1981.-64 с., ил. — (Науч.-попул. мед. литература. Детям о здоровье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 Скрипкин Ю. К., Марьясис Е. Д.  Гигиена юноши. 2-е изд., перераб. — М.: Медицина, 1982. 80 с., ил. — (Науч.-попул. мед. литература. Детям о здоровье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. http://www.tspu.tula.ru/res/fizvosp/hygiene/g_4htm Тульский государственный педагогический университет им Л.Н. Толстого  Составитель доцент кафедры МПОФВ Артамонова Л.Л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игиенические основы физического воспитания школьников Учебно-методические материалы для выполнения заданий педагогической практик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. http://upr.1september.ru/2005/22/14.htm  Марьяна БЕЗРУКИХ, Валентин СОНЬКИН, Валерия       Безобразова. Курсы повышения квалификации. Здоровьесберегающая шко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Литература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1. Здоровье:  Учебно - методическое  пособие  для учителей   1-11 классов / Под редакцией В.Н.Касаткина, Л.А.Щеплягиной. Ярославль: Аверс Пресс, 2003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2. Колесов Д. В., Маш Р. Д. Основы гигиены и санитарии: Учеб. пособие для 9—10 кл. сред. шк.: Факультатив. курс.- М.: Просвещение, 1989.— 192 с: ил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3. Коростелев Н. Б.     Шаг за шагом: Твой календарь здоровья.— М.: Мол. гвардия, 1984.— 95 с., ил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4. Козлов В. И. Береги   здоровье   смолоду. — М.: Физкультура    и     спорт, 1987. —32 с., ил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5. Ленюшкин А. И., Буров И. С.     Мальчику-подростку. — М.:  Медицина,  1981.-64 с., ил. — (Науч.-попул. мед. литература. Детям о здоровье.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6. Скрипкин Ю. К., Марьясис Е. Д.  Гигиена юноши. 2-е изд., перераб. — М.: Медицина, 1982. 80 с., ил. — (Науч.-попул. мед. литература. Детям о здоровье.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7. http://www.tspu.tula.ru/res/fizvosp/hygiene/g_4htm Тульский государственный педагогический университет им Л.Н. Толстого  Составитель доцент кафедры МПОФВ Артамонова Л.Л. 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Гигиенические основы физического воспитания школьников Учебно-методические материалы для выполнения заданий педагогической практики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8. http://upr.1september.ru/2005/22/14.htm  Марьяна БЕЗРУКИХ, Валентин СОНЬКИН, Валерия       Безобразова. Курсы повышения квалификации. Здоровьесберегающая школ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ч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собствовать формированию представления о режиме дня, его основных компонента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собствовать обучению школьников умению  составить свой режим дн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должить формирование навыков работы с текстом, анализа, сравнения, обобщения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должить формирование умения слушать и слышать собеседника, учить коллективному сотрудничеству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пагандировать здоровый образ жизн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Задач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пособствовать формированию представления о режиме дня, его основных компонентах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пособствовать обучению школьников умению  составить свой режим дня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родолжить формирование навыков работы с текстом, анализа, сравнения, обобщения;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родолжить формирование умения слушать и слышать собеседника, учить коллективному сотрудничеству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ропагандировать здоровый образ жизни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Постановка и решение учебных задач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ременному школьнику постоянно не хватает времени. Процесс обучения в школе очень насыщенный. Бывают дни, когда и в школе все в порядке, и дома – школьник успел сходить в кино, прочитать интересную книгу и т. п. А бывают и другие дни. Например, в выходной день поздно встал, не успел на тренировку, за уроки взялся поздно вечером. Настроение плохое, и весь день испорчен. В таких случаях говорят, что  не соблюдаете режима дн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же такое режим дня? Реально ли выполнение строгого режим дня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1. Постановка и решение учебных задач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овременному школьнику постоянно не хватает времени. Процесс обучения в школе очень насыщенный. Бывают дни, когда и в школе все в порядке, и дома – школьник успел сходить в кино, прочитать интересную книгу и т. п. А бывают и другие дни. Например, в выходной день поздно встал, не успел на тренировку, за уроки взялся поздно вечером. Настроение плохое, и весь день испорчен. В таких случаях говорят, что  не соблюдаете режима дня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Что же такое режим дня? Реально ли выполнение строгого режим дня?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жим дня - это распределение времени на все виды суточной деятельности и отдыха с учетом возраста, состояния здоровья 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обенностей лич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ежим дня - это распределение времени на все виды суточной деятельности и отдыха с учетом возраста, состояния здоровья и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особенностей личности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Изучение нового материала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уется работа в группах по 5 человек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2. Изучение нового материала.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Организуется работа в группах по 5 человек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кст №1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читайте предложенный текс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йдите ответ на вопрос: «Какие факторы влияют на режим дня?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авьте схему «Основными компонентами режима дня школьник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основе режима дня лежит условно-рефлекторная деятельность. Со временем она приобретает характер динамического стереотипа, подготавливая организм к выполнению определенной деятельности в конкретное время и, значит, облегчает выполнение этой рабо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жим дня считается правильным, если в нем предусмотрено достаточно времени для всех видов деятельности  в соответствии с гигиеническим регламентом. Деятельность должна быть посильной для данного индивидуума, а отдых должен способствовать оптимальному восстановлению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Определяется режим не только нашими жела­ниями, но и общественными требованиями. В определенные часы начинают и заканчивают работу учреждения, заводы, институты, школы, театры, магазины. И каждый человек, независимо от желания, дол­жен считаться с этими фактор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ростом и развитием ребенка меняется ритм жизни, интересы, соответственно и  режим дня претерпевает изменения. Но в любой период жизни, рационально построенный режим  предупреждает утомление, укрепляет здоровье, способствует оптимальной работоспособности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Основными компонентами режима дня школьника являются: сон, пребывание на свежем воздухе (прогулки), учеба в школе и дома, игровая деятельность по интересам, отдых по интересам, личная гигиена, питание, помощь по дом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Текст №1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рочитайте предложенный текст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Найдите ответ на вопрос: «Какие факторы влияют на режим дня?»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оставьте схему «Основными компонентами режима дня школьника»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 основе режима дня лежит условно-рефлекторная деятельность. Со временем она приобретает характер динамического стереотипа, подготавливая организм к выполнению определенной деятельности в конкретное время и, значит, облегчает выполнение этой работы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ежим дня считается правильным, если в нем предусмотрено достаточно времени для всех видов деятельности  в соответствии с гигиеническим регламентом. Деятельность должна быть посильной для данного индивидуума, а отдых должен способствовать оптимальному восстановлению. 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      Определяется режим не только нашими жела­ниями, но и общественными требованиями. В определенные часы начинают и заканчивают работу учреждения, заводы, институты, школы, театры, магазины. И каждый человек, независимо от желания, дол­жен считаться с этими факторами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 ростом и развитием ребенка меняется ритм жизни, интересы, соответственно и  режим дня претерпевает изменения. Но в любой период жизни, рационально построенный режим  предупреждает утомление, укрепляет здоровье, способствует оптимальной работоспособности.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       Основными компонентами режима дня школьника являются: сон, пребывание на свежем воздухе (прогулки), учеба в школе и дома, игровая деятельность по интересам, отдых по интересам, личная гигиена, питание, помощь по дому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кст №2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Прочитайте предложенный текс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Найдите ответы на вопрос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Для чего необходим режим дн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К чему приводит нерационально организованный режим дн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веты запишите в виде сх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жим дня должен предусматривать достаточное время для необходимых элементов жизнедеятельности и обеспечивать на протяжении всего периода бодрствования высокую работоспособность. Правильно организованный режим дня сохраняет здоровье, создает условия для повышения учебной мотивации, способствует нормальному развитию ребен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тановлено, что нерационально организованный режим приводит к резкому снижению работоспособности, развитию утомления и переутомления, что отрицательно сказывается на состоянии здоровья школьников. Взрослый человек довольно долго может справляться с отрицательными последствиями нарушений режима дня и не замечать ухудшения своего здоровья. Что же касается детей, то любое нарушение режима (нерегулярный прием пищи, сокращение времени сна, прогулок, выполнение домашних заданий в вечернее время и т.п.) может стать причиной задержки роста и нормального развития детского организм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 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Текст №2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1. Прочитайте предложенный текст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2. Найдите ответы на вопросы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-Для чего необходим режим дня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-К чему приводит нерационально организованный режим дня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Ответы запишите в виде схем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ежим дня должен предусматривать достаточное время для необходимых элементов жизнедеятельности и обеспечивать на протяжении всего периода бодрствования высокую работоспособность. Правильно организованный режим дня сохраняет здоровье, создает условия для повышения учебной мотивации, способствует нормальному развитию ребенка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Установлено, что нерационально организованный режим приводит к резкому снижению работоспособности, развитию утомления и переутомления, что отрицательно сказывается на состоянии здоровья школьников. Взрослый человек довольно долго может справляться с отрицательными последствиями нарушений режима дня и не замечать ухудшения своего здоровья. Что же касается детей, то любое нарушение режима (нерегулярный прием пищи, сокращение времени сна, прогулок, выполнение домашних заданий в вечернее время и т.п.) может стать причиной задержки роста и нормального развития детского организма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кст №3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Прочитайте предложенный текс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Запишите в тетради свой распорядок дня и сравните его с рекомендованны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Сделайте вывод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правильно составить режим дн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огий режим — распорядок дня — является важнейшей предпосылкой для высокой трудоспособности, крепкого здоровья и хорошего самочувствия. По этому поводу М. М. Пришвин писал: «...не само здоровье дает долголе­тие, а правильное расходование его» [6]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залось бы, люди творческого труда: композито­ры, писатели — должны работать только тогда, когда у них вдохновение. А на самом деле тот же строгий ре­жи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Моя система работы,— рассказывал великий рус­ский композитор П. И. Чайковский,— абсолютно регулярная, всегда в одни и те же часы, без всякого к са­мому себе послабления. Музыкальные мысли зарождаются во мне, как только, отвлекшись от чуждых моему труду соображений и забот, принимаюсь за работу... Работаю я от 10 часов утра' до часу пополудни и от пяти до восьми вечера. Поздним вечером или ночью я ни­когда не работаю» [3]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жим дня считается правильным, если предусматривает достаточное время для необходимых элементов жизнедеятельности и обеспечивает на протяжении всего периода бодрствования высокую работоспособ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Текст №3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1. Прочитайте предложенный текст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2. Запишите в тетради свой распорядок дня и сравните его с рекомендованным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3. Сделайте выводы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Как правильно составить режим дня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трогий режим — распорядок дня — является важнейшей предпосылкой для высокой трудоспособности, крепкого здоровья и хорошего самочувствия. По этому поводу М. М. Пришвин писал: «...не само здоровье дает долголе­тие, а правильное расходование его» [6]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Казалось бы, люди творческого труда: композито­ры, писатели — должны работать только тогда, когда у них вдохновение. А на самом деле тот же строгий ре­жим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«Моя система работы,— рассказывал великий рус­ский композитор П. И. Чайковский,— абсолютно регулярная, всегда в одни и те же часы, без всякого к са­мому себе послабления. Музыкальные мысли зарождаются во мне, как только, отвлекшись от чуждых моему труду соображений и забот, принимаюсь за работу... Работаю я от 10 часов утра' до часу пополудни и от пяти до восьми вечера. Поздним вечером или ночью я ни­когда не работаю» [3]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ежим дня считается правильным, если предусматривает достаточное время для необходимых элементов жизнедеятельности и обеспечивает на протяжении всего периода бодрствования высокую работоспособность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FEA46-AC87-4E1D-B776-393D48D4B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EA94B-0B62-473C-ADAA-B6DAB0897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E9F05-D59D-42F7-A7BD-A621DFBED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9E085-280F-40D8-8505-053DC4641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22119-3207-4C41-8E9F-D0B1FBAD0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8585E-516C-4645-A8F1-36F4B892B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9EA28-586A-4BD0-97AD-9BE2B7C05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E7961-257E-402C-BA4C-C19D17F83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B1532-329D-4E3D-8DAD-C862871BA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2BF59-365B-4574-BCD4-A0769A870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5A6A7-D82D-4B31-9C54-1CB6A27EA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34671-5FAD-4DFC-A5F0-2CEC2CD99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10189-EBC5-49F9-BC27-A8AAAC3F1EE2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package" Target="../embeddings/oleObject1.xlsx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www.tspu.tula.ru/res/fizvosp/hygiene/g_4htm" TargetMode="External"/><Relationship Id="rId2" Type="http://schemas.openxmlformats.org/officeDocument/2006/relationships/hyperlink" Target="http://upr.1september.ru/2005/22/14.htm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6" descr=""/>
          <p:cNvPicPr/>
          <p:nvPr/>
        </p:nvPicPr>
        <p:blipFill>
          <a:blip r:embed="rId1"/>
          <a:stretch/>
        </p:blipFill>
        <p:spPr>
          <a:xfrm>
            <a:off x="-181080" y="0"/>
            <a:ext cx="932508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Режим дня</a:t>
            </a:r>
            <a:br>
              <a:rPr sz="4000"/>
            </a:b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 современного</a:t>
            </a:r>
            <a:br>
              <a:rPr sz="4000"/>
            </a:b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 школьника</a:t>
            </a:r>
            <a:br>
              <a:rPr sz="4000"/>
            </a:b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урок биологии в 8 классе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32000" y="4365360"/>
            <a:ext cx="6400800" cy="249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5ffff"/>
                </a:solidFill>
                <a:latin typeface="Tahoma"/>
              </a:rPr>
              <a:t>Автор: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5ffff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5ffff"/>
                </a:solidFill>
                <a:latin typeface="Tahoma"/>
              </a:rPr>
              <a:t>Данилова Ю.В., учитель биологии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5ffff"/>
                </a:solidFill>
                <a:latin typeface="Tahoma"/>
              </a:rPr>
              <a:t>МОУ«Средняя общеобразовательная школа №1» муниципального образования «Островский район»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5ffff"/>
                </a:solidFill>
                <a:latin typeface="Tahoma"/>
              </a:rPr>
              <a:t>г.Остров. Псковская область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1" lang="ru-RU" sz="1600" spc="-1" strike="noStrike">
                <a:solidFill>
                  <a:srgbClr val="e5ffff"/>
                </a:solidFill>
                <a:latin typeface="Tahoma"/>
              </a:rPr>
              <a:t>2008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" dur="5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" dur="5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" dur="500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" dur="500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4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ffff"/>
                </a:solidFill>
                <a:latin typeface="Tahoma"/>
              </a:rPr>
              <a:t>Режим дня школьника</a:t>
            </a:r>
            <a:r>
              <a:rPr b="1" lang="en-US" sz="44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e5ffff"/>
                </a:solidFill>
                <a:latin typeface="Tahoma"/>
              </a:rPr>
              <a:t>[7]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79" name="Object 3"/>
          <p:cNvGraphicFramePr/>
          <p:nvPr/>
        </p:nvGraphicFramePr>
        <p:xfrm>
          <a:off x="684360" y="333360"/>
          <a:ext cx="7559640" cy="9394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333360"/>
                    <a:ext cx="7559640" cy="939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nodeType="clickEffect" fill="hold">
                      <p:stCondLst>
                        <p:cond delay="0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00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5ffff"/>
                </a:solidFill>
                <a:latin typeface="Tahoma"/>
              </a:rPr>
              <a:t>Гигиенические нормативы продолжительности основных видов деятельности школьников в сутки </a:t>
            </a:r>
            <a:br>
              <a:rPr sz="2800"/>
            </a:br>
            <a:r>
              <a:rPr b="1" lang="ru-RU" sz="2800" spc="-1" strike="noStrike">
                <a:solidFill>
                  <a:srgbClr val="e5ffff"/>
                </a:solidFill>
                <a:latin typeface="Tahoma"/>
              </a:rPr>
              <a:t>(в астрономических часах)</a:t>
            </a:r>
            <a:r>
              <a:rPr b="1" lang="en-US" sz="28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e5ffff"/>
                </a:solidFill>
                <a:latin typeface="Tahoma"/>
              </a:rPr>
              <a:t>[8].</a:t>
            </a:r>
            <a:endParaRPr b="0" lang="en-US" sz="18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83" name="Object 3"/>
          <p:cNvGraphicFramePr/>
          <p:nvPr/>
        </p:nvGraphicFramePr>
        <p:xfrm>
          <a:off x="1187280" y="1413000"/>
          <a:ext cx="7272360" cy="6680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413000"/>
                    <a:ext cx="7272360" cy="668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0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4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Текст №4</a:t>
            </a:r>
            <a:br>
              <a:rPr sz="4400"/>
            </a:b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1. Прочитайте  текст учебной статьи с.188-189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2.Составьте рекомендации для школьников как правильно организовать режим дня. Запишите в тетрадь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0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5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Подведение итогов работы групп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едставитель от каждой группы знакомит одноклассников с результатами работы групп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0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Oval 2"/>
          <p:cNvSpPr/>
          <p:nvPr/>
        </p:nvSpPr>
        <p:spPr>
          <a:xfrm>
            <a:off x="3276720" y="1844640"/>
            <a:ext cx="2735280" cy="266544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5ffff"/>
                </a:solidFill>
                <a:latin typeface="Tahoma"/>
              </a:rPr>
              <a:t>Основные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5ffff"/>
                </a:solidFill>
                <a:latin typeface="Tahoma"/>
              </a:rPr>
              <a:t>компоненты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e5ffff"/>
                </a:solidFill>
                <a:latin typeface="Tahoma"/>
              </a:rPr>
              <a:t>режима дн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e5ffff"/>
                </a:solidFill>
                <a:latin typeface="Tahoma"/>
              </a:rPr>
              <a:t>школьник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Rectangle 3"/>
          <p:cNvSpPr/>
          <p:nvPr/>
        </p:nvSpPr>
        <p:spPr>
          <a:xfrm>
            <a:off x="684360" y="1197000"/>
            <a:ext cx="18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он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Rectangle 4"/>
          <p:cNvSpPr/>
          <p:nvPr/>
        </p:nvSpPr>
        <p:spPr>
          <a:xfrm>
            <a:off x="179280" y="2924280"/>
            <a:ext cx="2529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ебывание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а свежем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оздухе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(прогулки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Rectangle 5"/>
          <p:cNvSpPr/>
          <p:nvPr/>
        </p:nvSpPr>
        <p:spPr>
          <a:xfrm>
            <a:off x="5940360" y="981000"/>
            <a:ext cx="352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учеба в школе и дом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Rectangle 6"/>
          <p:cNvSpPr/>
          <p:nvPr/>
        </p:nvSpPr>
        <p:spPr>
          <a:xfrm>
            <a:off x="6659640" y="2924280"/>
            <a:ext cx="306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гровая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деятельность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 интересам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Rectangle 7"/>
          <p:cNvSpPr/>
          <p:nvPr/>
        </p:nvSpPr>
        <p:spPr>
          <a:xfrm>
            <a:off x="6372360" y="5516640"/>
            <a:ext cx="230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тдых по интересам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Rectangle 8"/>
          <p:cNvSpPr/>
          <p:nvPr/>
        </p:nvSpPr>
        <p:spPr>
          <a:xfrm>
            <a:off x="3132000" y="5950080"/>
            <a:ext cx="2730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личная гигиен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Rectangle 9"/>
          <p:cNvSpPr/>
          <p:nvPr/>
        </p:nvSpPr>
        <p:spPr>
          <a:xfrm>
            <a:off x="3564000" y="189000"/>
            <a:ext cx="266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итани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Rectangle 10"/>
          <p:cNvSpPr/>
          <p:nvPr/>
        </p:nvSpPr>
        <p:spPr>
          <a:xfrm>
            <a:off x="684360" y="5445000"/>
            <a:ext cx="1935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мощь по дому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Line 11"/>
          <p:cNvSpPr/>
          <p:nvPr/>
        </p:nvSpPr>
        <p:spPr>
          <a:xfrm flipH="1">
            <a:off x="2339640" y="3645000"/>
            <a:ext cx="863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Line 12"/>
          <p:cNvSpPr/>
          <p:nvPr/>
        </p:nvSpPr>
        <p:spPr>
          <a:xfrm flipH="1">
            <a:off x="2339640" y="4437000"/>
            <a:ext cx="1079640" cy="936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Line 13"/>
          <p:cNvSpPr/>
          <p:nvPr/>
        </p:nvSpPr>
        <p:spPr>
          <a:xfrm>
            <a:off x="5724360" y="4508640"/>
            <a:ext cx="1152720" cy="865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4643280" y="515772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Line 15"/>
          <p:cNvSpPr/>
          <p:nvPr/>
        </p:nvSpPr>
        <p:spPr>
          <a:xfrm>
            <a:off x="3348000" y="234936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Line 16"/>
          <p:cNvSpPr/>
          <p:nvPr/>
        </p:nvSpPr>
        <p:spPr>
          <a:xfrm flipH="1" flipV="1">
            <a:off x="2050560" y="1844640"/>
            <a:ext cx="122580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Line 17"/>
          <p:cNvSpPr/>
          <p:nvPr/>
        </p:nvSpPr>
        <p:spPr>
          <a:xfrm flipV="1">
            <a:off x="5940360" y="1773000"/>
            <a:ext cx="1368360" cy="647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Line 18"/>
          <p:cNvSpPr/>
          <p:nvPr/>
        </p:nvSpPr>
        <p:spPr>
          <a:xfrm flipV="1">
            <a:off x="4572000" y="765000"/>
            <a:ext cx="0" cy="935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4500720" y="4653000"/>
            <a:ext cx="0" cy="1224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Line 20"/>
          <p:cNvSpPr/>
          <p:nvPr/>
        </p:nvSpPr>
        <p:spPr>
          <a:xfrm>
            <a:off x="6084720" y="3573360"/>
            <a:ext cx="574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nodeType="clickEffect" fill="hold">
                      <p:stCondLst>
                        <p:cond delay="0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8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6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8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0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9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4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2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8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3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3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6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3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0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2"/>
          <p:cNvSpPr/>
          <p:nvPr/>
        </p:nvSpPr>
        <p:spPr>
          <a:xfrm>
            <a:off x="2700360" y="2852640"/>
            <a:ext cx="3672000" cy="215892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ffff"/>
                </a:solidFill>
                <a:latin typeface="Tahoma"/>
              </a:rPr>
              <a:t>Правильно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e5ffff"/>
                </a:solidFill>
                <a:latin typeface="Tahoma"/>
              </a:rPr>
              <a:t>организованный</a:t>
            </a:r>
            <a:br>
              <a:rPr sz="3200"/>
            </a:br>
            <a:r>
              <a:rPr b="1" lang="ru-RU" sz="3200" spc="-1" strike="noStrike">
                <a:solidFill>
                  <a:srgbClr val="e5ffff"/>
                </a:solidFill>
                <a:latin typeface="Tahoma"/>
              </a:rPr>
              <a:t>  режим дн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Oval 3"/>
          <p:cNvSpPr/>
          <p:nvPr/>
        </p:nvSpPr>
        <p:spPr>
          <a:xfrm>
            <a:off x="324000" y="1268280"/>
            <a:ext cx="2736720" cy="158436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создает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интерес к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учебной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деятельности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Oval 4"/>
          <p:cNvSpPr/>
          <p:nvPr/>
        </p:nvSpPr>
        <p:spPr>
          <a:xfrm>
            <a:off x="324000" y="5157720"/>
            <a:ext cx="2663640" cy="14400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способствует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нормальному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развитию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ребенка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Oval 5"/>
          <p:cNvSpPr/>
          <p:nvPr/>
        </p:nvSpPr>
        <p:spPr>
          <a:xfrm>
            <a:off x="3203640" y="260280"/>
            <a:ext cx="2663640" cy="14400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сохраняет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здоровье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Oval 6"/>
          <p:cNvSpPr/>
          <p:nvPr/>
        </p:nvSpPr>
        <p:spPr>
          <a:xfrm>
            <a:off x="6227640" y="1341360"/>
            <a:ext cx="2664000" cy="14400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создает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ровное,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бодро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настроение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Oval 7"/>
          <p:cNvSpPr/>
          <p:nvPr/>
        </p:nvSpPr>
        <p:spPr>
          <a:xfrm>
            <a:off x="6227640" y="5084640"/>
            <a:ext cx="2664000" cy="14400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создает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интерес к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творческой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деятельности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nodeType="clickEffect" fill="hold">
                      <p:stCondLst>
                        <p:cond delay="0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2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7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2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1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3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5" dur="3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ffff"/>
                </a:solidFill>
                <a:latin typeface="Tahoma"/>
              </a:rPr>
              <a:t>Нерационально организованный режим приводит к</a:t>
            </a: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Oval 4"/>
          <p:cNvSpPr/>
          <p:nvPr/>
        </p:nvSpPr>
        <p:spPr>
          <a:xfrm>
            <a:off x="539640" y="3141720"/>
            <a:ext cx="2664000" cy="143964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Снижению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работоспособности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Oval 5"/>
          <p:cNvSpPr/>
          <p:nvPr/>
        </p:nvSpPr>
        <p:spPr>
          <a:xfrm>
            <a:off x="5796000" y="3213000"/>
            <a:ext cx="2808360" cy="129564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Задержк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роста и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нормального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развития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Oval 6"/>
          <p:cNvSpPr/>
          <p:nvPr/>
        </p:nvSpPr>
        <p:spPr>
          <a:xfrm>
            <a:off x="3276720" y="4221000"/>
            <a:ext cx="2735280" cy="14400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Развитию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утомления 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переутомления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Line 7"/>
          <p:cNvSpPr/>
          <p:nvPr/>
        </p:nvSpPr>
        <p:spPr>
          <a:xfrm flipH="1">
            <a:off x="2124000" y="1989000"/>
            <a:ext cx="2376720" cy="1008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Line 8"/>
          <p:cNvSpPr/>
          <p:nvPr/>
        </p:nvSpPr>
        <p:spPr>
          <a:xfrm>
            <a:off x="4643280" y="1989000"/>
            <a:ext cx="2449800" cy="1008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Line 9"/>
          <p:cNvSpPr/>
          <p:nvPr/>
        </p:nvSpPr>
        <p:spPr>
          <a:xfrm>
            <a:off x="4643280" y="2060640"/>
            <a:ext cx="0" cy="2089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nodeType="clickEffect" fill="hold">
                      <p:stCondLst>
                        <p:cond delay="0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6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0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4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5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8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Как правильно организовать режим дня.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28400" y="1285920"/>
            <a:ext cx="819612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1. Выполняйте утреннюю гимнастику, которая облегчает переход от сна к бодрствованию, позволяет организму активно включиться в работу Физические упражнения, занятия спортом укрепляют  здоровье, улучшение физическое развитие, повышают сопротивляемость организма, воспитывают волю, дисциплинированность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2. Правильное питание основа нормального физического и нервно-психического развития. Наш организм нуждается в поступлении пищевых веществ в определенном ритме. Утренний завтрак должен быть обязательным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3.Соблюдайте гигиену учебной деятельности дома: вернувшись из школы, пообедайте и обязательно отдохните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4. Начинайте выполнение домашнего задания с наименее тяжёлых предметов, переходя к более сложным. Делайте перерыв через каждый час занятий в течение 15—20 минут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5. Правильно организуйте свое рабочее место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6.  Готовьте уроки в день получения задания, что значительно сокращает время на врабатывание и восстановление полученных на уроках сведений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7. В течение дня необходимо чередование различных видов активности, в первую очередь — умственной и физической. Смена видов деятельности снимает усталость и способствует восстановлению работоспособности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nodeType="clickEffect" fill="hold">
                      <p:stCondLst>
                        <p:cond delay="0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0" dur="3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5" dur="30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0" dur="30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5" dur="30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0" dur="30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5" dur="3000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0" dur="3000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66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8. Не тратьте времени понапрасну, будьте точными в своих обещаниях. Не планируйте на один день много мероприятий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9.Чрезвычайно важно ежедневно бывать на свежем воздухе. Это могут быть прогулки, игры на свежем воздухе, физические упражнения. Их рекомендуется проводить в конце рабочего дня для восстановления работоспособности. Спокойные прогулки перед сном могут способствовать более быстрому наступлению полноценного сн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10. Ужинать необходимо не позднее, чем за 1,5-2 ч до сн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11. Сон  один из главных компонентов режима дня.  Перед сном  исключите умственную работу, возбуждающие игры и просмотр напряженных фильмов. Отходу ко сну должны предшествовать процедуры вечернего туалет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12. Привычка ложится спать и вставать в одно и тоже время способствует быстрому засыпанию и своевременному пробуждению. Выспавшийся школьник лучше воспринимает учебную информацию, объяснения учителей на уроке, быстрее справляется с приготовлением уроков, его работоспособность выше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13. Рационально используйте дневные часы, не экономить время за счет сна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14. Обратите внимание на гигиену сн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nodeType="clickEffect" fill="hold">
                      <p:stCondLst>
                        <p:cond delay="0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7" dur="3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0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1" dur="30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3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4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9" dur="30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4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3" dur="30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4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7" dur="3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4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1" dur="3000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85480" y="-360"/>
            <a:ext cx="8072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3. Закрепление</a:t>
            </a:r>
            <a:br>
              <a:rPr sz="4400"/>
            </a:b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642600"/>
            <a:ext cx="7972560" cy="545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 режиме дня школьника должны быть предусмотрены следующие основные компоненты: 1) учебные занятия в периоды подъема работоспособности в школе и дома; 2) отдых с максимальным пребыванием на открытом воздухе; 3) регулярное и достаточное питание; 4) гигиенически полноценный сон. Кроме того, в режиме дня должно быть отведено время для свободных занятий по собственному выбору (чтение, занятие музыкой, рисованием и другой творческой деятельностью, спорт, самообслуживание, помощь семье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Рационально построенный режим  способствует оптимальной работоспособности, предупреждает утомление, укрепляет здоровье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Анализ анкетирования учащихся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nodeType="clickEffect" fill="hold">
                      <p:stCondLst>
                        <p:cond delay="0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2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6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0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5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Цель учебного занятия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ыяснить значение режима дня для поддержания здоровья и работоспособности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0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1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ffff"/>
                </a:solidFill>
                <a:latin typeface="Tahoma"/>
              </a:rPr>
              <a:t>Результаты исследования</a:t>
            </a: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23640" y="907920"/>
            <a:ext cx="403380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cc66"/>
                </a:solidFill>
                <a:uFillTx/>
                <a:latin typeface="Tahoma"/>
              </a:rPr>
              <a:t>Вопросы анкеты «Мой режим дня»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>
              <a:lnSpc>
                <a:spcPct val="8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Tahoma"/>
              </a:rPr>
              <a:t>1. Выполняете ли вы утром физическую зарядку?</a:t>
            </a:r>
            <a:br>
              <a:rPr sz="1400"/>
            </a:br>
            <a:r>
              <a:rPr b="1" lang="ru-RU" sz="1400" spc="-1" strike="noStrike">
                <a:solidFill>
                  <a:srgbClr val="ffcc66"/>
                </a:solidFill>
                <a:latin typeface="Tahoma"/>
              </a:rPr>
              <a:t>а) всегда;    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c66"/>
                </a:solidFill>
                <a:latin typeface="Tahoma"/>
              </a:rPr>
              <a:t>       </a:t>
            </a:r>
            <a:r>
              <a:rPr b="1" lang="ru-RU" sz="1400" spc="-1" strike="noStrike">
                <a:solidFill>
                  <a:srgbClr val="ffcc66"/>
                </a:solidFill>
                <a:latin typeface="Tahoma"/>
              </a:rPr>
              <a:t>б) иногда;      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Tahoma"/>
              </a:rPr>
              <a:t>в) никогда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>
              <a:lnSpc>
                <a:spcPct val="8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Tahoma"/>
              </a:rPr>
              <a:t>	</a:t>
            </a:r>
            <a:r>
              <a:rPr b="1" lang="ru-RU" sz="1400" spc="-1" strike="noStrike">
                <a:solidFill>
                  <a:srgbClr val="ffcc66"/>
                </a:solidFill>
                <a:latin typeface="Tahoma"/>
              </a:rPr>
              <a:t>2. Завтракаете ли вы утром?</a:t>
            </a:r>
            <a:br>
              <a:rPr sz="1400"/>
            </a:br>
            <a:r>
              <a:rPr b="1" lang="ru-RU" sz="1400" spc="-1" strike="noStrike">
                <a:solidFill>
                  <a:srgbClr val="ffcc66"/>
                </a:solidFill>
                <a:latin typeface="Tahoma"/>
              </a:rPr>
              <a:t>а) всегда;    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Tahoma"/>
              </a:rPr>
              <a:t>б) иногда;      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Tahoma"/>
              </a:rPr>
              <a:t>в) никогда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>
              <a:lnSpc>
                <a:spcPct val="8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Tahoma"/>
              </a:rPr>
              <a:t>	</a:t>
            </a:r>
            <a:r>
              <a:rPr b="1" lang="ru-RU" sz="1400" spc="-1" strike="noStrike">
                <a:solidFill>
                  <a:srgbClr val="ffcc66"/>
                </a:solidFill>
                <a:latin typeface="Tahoma"/>
              </a:rPr>
              <a:t>3. В какое время вы обычно учите уроки?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Tahoma"/>
              </a:rPr>
              <a:t>а) сразу, как прихожу из школы;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Tahoma"/>
              </a:rPr>
              <a:t>б) отдыхаю и только потом начинаю делать уроки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Tahoma"/>
              </a:rPr>
              <a:t>в) обедаю и сажусь за уроки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>
              <a:lnSpc>
                <a:spcPct val="8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Tahoma"/>
              </a:rPr>
              <a:t>	</a:t>
            </a:r>
            <a:r>
              <a:rPr b="1" lang="ru-RU" sz="1400" spc="-1" strike="noStrike">
                <a:solidFill>
                  <a:srgbClr val="ffcc66"/>
                </a:solidFill>
                <a:latin typeface="Tahoma"/>
              </a:rPr>
              <a:t>4. Сколько времени вы затрачиваете на приготовление домашних заданий?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Tahoma"/>
              </a:rPr>
              <a:t>а) до 1 часа;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Tahoma"/>
              </a:rPr>
              <a:t>б) 1 - 2 часа;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Tahoma"/>
              </a:rPr>
              <a:t>в) 2 -3 часа;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Tahoma"/>
              </a:rPr>
              <a:t>г) 3 -4 часа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Tahoma"/>
              </a:rPr>
              <a:t>	</a:t>
            </a:r>
            <a:r>
              <a:rPr b="1" lang="ru-RU" sz="1400" spc="-1" strike="noStrike">
                <a:solidFill>
                  <a:srgbClr val="ffcc66"/>
                </a:solidFill>
                <a:latin typeface="Tahoma"/>
              </a:rPr>
              <a:t>5. Делаете ли вы перерывы при выполнении домашнего задания?</a:t>
            </a:r>
            <a:br>
              <a:rPr sz="1400"/>
            </a:br>
            <a:r>
              <a:rPr b="1" lang="ru-RU" sz="1400" spc="-1" strike="noStrike">
                <a:solidFill>
                  <a:srgbClr val="ffcc66"/>
                </a:solidFill>
                <a:latin typeface="Tahoma"/>
              </a:rPr>
              <a:t>а) всегда;     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Tahoma"/>
              </a:rPr>
              <a:t>б) иногда;     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Tahoma"/>
              </a:rPr>
              <a:t>в) никогда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marL="281160" indent="-281160">
              <a:lnSpc>
                <a:spcPct val="80000"/>
              </a:lnSpc>
              <a:spcBef>
                <a:spcPts val="224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r>
              <a:rPr b="0" lang="ru-RU" sz="9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43280" y="907920"/>
            <a:ext cx="403416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Tahoma"/>
              </a:rPr>
              <a:t>6. Вы ложитесь спать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Tahoma"/>
              </a:rPr>
              <a:t>а) в 21-22.00;   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Tahoma"/>
              </a:rPr>
              <a:t>б) в 22-23.00;    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Tahoma"/>
              </a:rPr>
              <a:t> </a:t>
            </a:r>
            <a:r>
              <a:rPr b="1" lang="ru-RU" sz="1400" spc="-1" strike="noStrike">
                <a:solidFill>
                  <a:srgbClr val="ffcc66"/>
                </a:solidFill>
                <a:latin typeface="Tahoma"/>
              </a:rPr>
              <a:t>в) после 23.00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Tahoma"/>
              </a:rPr>
              <a:t>	</a:t>
            </a:r>
            <a:r>
              <a:rPr b="1" lang="ru-RU" sz="1400" spc="-1" strike="noStrike">
                <a:solidFill>
                  <a:srgbClr val="ffcc66"/>
                </a:solidFill>
                <a:latin typeface="Tahoma"/>
              </a:rPr>
              <a:t>7.Как часто вы просыпаетесь не выспавшись?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Tahoma"/>
              </a:rPr>
              <a:t>а) всегда;        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Tahoma"/>
              </a:rPr>
              <a:t>б) иногда;           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Tahoma"/>
              </a:rPr>
              <a:t>в) никогда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Tahoma"/>
              </a:rPr>
              <a:t>	</a:t>
            </a:r>
            <a:r>
              <a:rPr b="1" lang="ru-RU" sz="1400" spc="-1" strike="noStrike">
                <a:solidFill>
                  <a:srgbClr val="ffcc66"/>
                </a:solidFill>
                <a:latin typeface="Tahoma"/>
              </a:rPr>
              <a:t>8. Сколько часов в день вы смотрите телевизор?</a:t>
            </a:r>
            <a:br>
              <a:rPr sz="1400"/>
            </a:br>
            <a:r>
              <a:rPr b="1" lang="ru-RU" sz="1400" spc="-1" strike="noStrike">
                <a:solidFill>
                  <a:srgbClr val="ffcc66"/>
                </a:solidFill>
                <a:latin typeface="Tahoma"/>
              </a:rPr>
              <a:t>а) 1 - 2 часа;   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Tahoma"/>
              </a:rPr>
              <a:t>б) 3- 4 часа;  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Tahoma"/>
              </a:rPr>
              <a:t>в) все свободное время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Tahoma"/>
              </a:rPr>
              <a:t>	</a:t>
            </a:r>
            <a:r>
              <a:rPr b="1" lang="ru-RU" sz="1400" spc="-1" strike="noStrike">
                <a:solidFill>
                  <a:srgbClr val="ffcc66"/>
                </a:solidFill>
                <a:latin typeface="Tahoma"/>
              </a:rPr>
              <a:t>9. Как обычно вы проводите воскресный день?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Tahoma"/>
              </a:rPr>
              <a:t>а) смотрю телевизор, играю в компьютерные игры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Tahoma"/>
              </a:rPr>
              <a:t>б) слоняюсь по дому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Tahoma"/>
              </a:rPr>
              <a:t>в) гуляю, занимаюсь спортом;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Tahoma"/>
              </a:rPr>
              <a:t>г) другое (укажите что именно)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Tahoma"/>
              </a:rPr>
              <a:t>	</a:t>
            </a:r>
            <a:r>
              <a:rPr b="1" lang="ru-RU" sz="1400" spc="-1" strike="noStrike">
                <a:solidFill>
                  <a:srgbClr val="ffcc66"/>
                </a:solidFill>
                <a:latin typeface="Tahoma"/>
              </a:rPr>
              <a:t>10.Как часто вы стараетесь спланировать свой день: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Tahoma"/>
              </a:rPr>
              <a:t>а) всегда;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Tahoma"/>
              </a:rPr>
              <a:t>б) иногда;   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cc66"/>
                </a:solidFill>
                <a:latin typeface="Tahoma"/>
              </a:rPr>
              <a:t>в) никогда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nodeType="clickEffect" fill="hold">
                      <p:stCondLst>
                        <p:cond delay="0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5ffff"/>
                </a:solidFill>
                <a:latin typeface="Tahoma"/>
              </a:rPr>
              <a:t>Двигательная активность как компонент режима дня.</a:t>
            </a:r>
            <a:br>
              <a:rPr sz="2400"/>
            </a:br>
            <a:r>
              <a:rPr b="0" lang="ru-RU" sz="2000" spc="-1" strike="noStrike">
                <a:solidFill>
                  <a:srgbClr val="e5ffff"/>
                </a:solidFill>
                <a:latin typeface="Tahoma"/>
              </a:rPr>
              <a:t>Облегчает переход от сна к бодрствованию, позволяет организму активно включиться в работу утренняя зарядка.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41" name="Object 3"/>
          <p:cNvGraphicFramePr/>
          <p:nvPr/>
        </p:nvGraphicFramePr>
        <p:xfrm>
          <a:off x="-214200" y="2081160"/>
          <a:ext cx="5259240" cy="4776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214200" y="2081160"/>
                    <a:ext cx="5259240" cy="477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3" name="Picture 7" descr=""/>
          <p:cNvPicPr/>
          <p:nvPr/>
        </p:nvPicPr>
        <p:blipFill>
          <a:blip r:embed="rId3"/>
          <a:stretch/>
        </p:blipFill>
        <p:spPr>
          <a:xfrm>
            <a:off x="5219640" y="2781360"/>
            <a:ext cx="3240000" cy="3456000"/>
          </a:xfrm>
          <a:prstGeom prst="rect">
            <a:avLst/>
          </a:prstGeom>
          <a:ln w="0">
            <a:noFill/>
          </a:ln>
        </p:spPr>
      </p:pic>
      <p:sp>
        <p:nvSpPr>
          <p:cNvPr id="14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nodeType="clickEffect" fill="hold">
                      <p:stCondLst>
                        <p:cond delay="0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6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7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300"/>
            </a:br>
            <a:br>
              <a:rPr sz="2800"/>
            </a:br>
            <a:r>
              <a:rPr b="1" lang="ru-RU" sz="2800" spc="-1" strike="noStrike">
                <a:solidFill>
                  <a:srgbClr val="e5ffff"/>
                </a:solidFill>
                <a:latin typeface="Tahoma"/>
              </a:rPr>
              <a:t>Правильное питание основа нормального физического и нервно-психического развития.</a:t>
            </a:r>
            <a:r>
              <a:rPr b="1" lang="ru-RU" sz="2300" spc="-1" strike="noStrike">
                <a:solidFill>
                  <a:srgbClr val="e5ffff"/>
                </a:solidFill>
                <a:latin typeface="Tahoma"/>
              </a:rPr>
              <a:t> </a:t>
            </a:r>
            <a:br>
              <a:rPr sz="2300"/>
            </a:br>
            <a:r>
              <a:rPr b="0" lang="ru-RU" sz="2300" spc="-1" strike="noStrike">
                <a:solidFill>
                  <a:srgbClr val="e5ffff"/>
                </a:solidFill>
                <a:latin typeface="Tahoma"/>
              </a:rPr>
              <a:t>Завтрак - обязательный компонент режима дня.</a:t>
            </a: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46" name="Object 3"/>
          <p:cNvGraphicFramePr/>
          <p:nvPr/>
        </p:nvGraphicFramePr>
        <p:xfrm>
          <a:off x="4178160" y="2492280"/>
          <a:ext cx="4965840" cy="2524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78160" y="2492280"/>
                    <a:ext cx="4965840" cy="252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8" name="Picture 6" descr=""/>
          <p:cNvPicPr/>
          <p:nvPr/>
        </p:nvPicPr>
        <p:blipFill>
          <a:blip r:embed="rId3"/>
          <a:stretch/>
        </p:blipFill>
        <p:spPr>
          <a:xfrm>
            <a:off x="900000" y="2349360"/>
            <a:ext cx="2766960" cy="3743640"/>
          </a:xfrm>
          <a:prstGeom prst="rect">
            <a:avLst/>
          </a:prstGeom>
          <a:ln w="0">
            <a:noFill/>
          </a:ln>
        </p:spPr>
      </p:pic>
      <p:sp>
        <p:nvSpPr>
          <p:cNvPr id="14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nodeType="clickEffect" fill="hold">
                      <p:stCondLst>
                        <p:cond delay="0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9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lang="ru-RU" sz="2300" spc="-1" strike="noStrike">
                <a:solidFill>
                  <a:srgbClr val="e5ffff"/>
                </a:solidFill>
                <a:latin typeface="Tahoma"/>
              </a:rPr>
              <a:t>Рабочий день школьника состоит из занятий в школе и приготовления уроков дома.</a:t>
            </a: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51" name="Object 4"/>
          <p:cNvGraphicFramePr/>
          <p:nvPr/>
        </p:nvGraphicFramePr>
        <p:xfrm>
          <a:off x="577800" y="1763640"/>
          <a:ext cx="4864320" cy="3970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7800" y="1763640"/>
                    <a:ext cx="4864320" cy="397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53" name="Picture 6" descr=""/>
          <p:cNvPicPr/>
          <p:nvPr/>
        </p:nvPicPr>
        <p:blipFill>
          <a:blip r:embed="rId3"/>
          <a:stretch/>
        </p:blipFill>
        <p:spPr>
          <a:xfrm>
            <a:off x="5651640" y="1989000"/>
            <a:ext cx="2808000" cy="3600720"/>
          </a:xfrm>
          <a:prstGeom prst="rect">
            <a:avLst/>
          </a:prstGeom>
          <a:ln w="0">
            <a:noFill/>
          </a:ln>
        </p:spPr>
      </p:pic>
      <p:sp>
        <p:nvSpPr>
          <p:cNvPr id="1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nodeType="clickEffect" fill="hold">
                      <p:stCondLst>
                        <p:cond delay="0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5" name="Object 2"/>
          <p:cNvGraphicFramePr/>
          <p:nvPr/>
        </p:nvGraphicFramePr>
        <p:xfrm>
          <a:off x="404640" y="438120"/>
          <a:ext cx="4165920" cy="5907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4640" y="438120"/>
                    <a:ext cx="4165920" cy="590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7" name="Object 3"/>
          <p:cNvGraphicFramePr/>
          <p:nvPr/>
        </p:nvGraphicFramePr>
        <p:xfrm>
          <a:off x="4929120" y="403200"/>
          <a:ext cx="3814920" cy="59072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58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929120" y="403200"/>
                    <a:ext cx="3814920" cy="590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508" dur="indefinite" restart="never" nodeType="tmRoot">
          <p:childTnLst>
            <p:seq>
              <p:cTn id="509" dur="indefinite" nodeType="mainSeq">
                <p:childTnLst>
                  <p:par>
                    <p:cTn id="510" nodeType="clickEffect" fill="hold">
                      <p:stCondLst>
                        <p:cond delay="0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8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1" lang="ru-RU" sz="32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e5ffff"/>
                </a:solidFill>
                <a:latin typeface="Tahoma"/>
              </a:rPr>
              <a:t>Свободное время школьников может быть отведено занятиям в кружках, спортивных секциях,</a:t>
            </a:r>
            <a:r>
              <a:rPr b="1" lang="en-US" sz="32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e5ffff"/>
                </a:solidFill>
                <a:latin typeface="Tahoma"/>
              </a:rPr>
              <a:t>клубах</a:t>
            </a: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61" name="Object 5"/>
          <p:cNvGraphicFramePr/>
          <p:nvPr/>
        </p:nvGraphicFramePr>
        <p:xfrm>
          <a:off x="179280" y="2205000"/>
          <a:ext cx="4722840" cy="3672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2205000"/>
                    <a:ext cx="4722840" cy="36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63" name="Picture 8" descr=""/>
          <p:cNvPicPr/>
          <p:nvPr/>
        </p:nvPicPr>
        <p:blipFill>
          <a:blip r:embed="rId3"/>
          <a:stretch/>
        </p:blipFill>
        <p:spPr>
          <a:xfrm>
            <a:off x="5148360" y="1628640"/>
            <a:ext cx="3306600" cy="21877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9" descr=""/>
          <p:cNvPicPr/>
          <p:nvPr/>
        </p:nvPicPr>
        <p:blipFill>
          <a:blip r:embed="rId4"/>
          <a:stretch/>
        </p:blipFill>
        <p:spPr>
          <a:xfrm>
            <a:off x="5148360" y="4221000"/>
            <a:ext cx="3311280" cy="2116440"/>
          </a:xfrm>
          <a:prstGeom prst="rect">
            <a:avLst/>
          </a:prstGeom>
          <a:ln w="0">
            <a:noFill/>
          </a:ln>
        </p:spPr>
      </p:pic>
      <p:sp>
        <p:nvSpPr>
          <p:cNvPr id="1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nodeType="clickEffect" fill="hold">
                      <p:stCondLst>
                        <p:cond delay="0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5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3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3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ffff"/>
                </a:solidFill>
                <a:latin typeface="Tahoma"/>
              </a:rPr>
              <a:t>Режим дня - это режим жизни</a:t>
            </a: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148000" y="1341360"/>
            <a:ext cx="380988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трогий режим — распорядок дня — является предпосылкой для высокой трудоспособности, крепкого здоровья и хорошего самочувствия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8" name="Picture 4" descr="j0234131"/>
          <p:cNvPicPr/>
          <p:nvPr/>
        </p:nvPicPr>
        <p:blipFill>
          <a:blip r:embed="rId1"/>
          <a:stretch/>
        </p:blipFill>
        <p:spPr>
          <a:xfrm>
            <a:off x="7020000" y="4581360"/>
            <a:ext cx="1952640" cy="2076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9" name="Object 5"/>
          <p:cNvGraphicFramePr/>
          <p:nvPr/>
        </p:nvGraphicFramePr>
        <p:xfrm>
          <a:off x="642960" y="1714680"/>
          <a:ext cx="4429080" cy="38908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70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42960" y="1714680"/>
                    <a:ext cx="4429080" cy="389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nodeType="clickEffect" fill="hold">
                      <p:stCondLst>
                        <p:cond delay="0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6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9" dur="5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5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Итоги урока. Домашнее задание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ыставление оценок учителем в журнал, их аргументаци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очитать §61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оставить свой распорядок дн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оделать наблюдение за состоянием своего здоровья, умственной активности при правильно организованном режиме дня. Сделать вывод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nodeType="clickEffect" fill="hold">
                      <p:stCondLst>
                        <p:cond delay="0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3" dur="2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7" dur="2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5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20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5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5" dur="20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57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9" dur="20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ffff"/>
                </a:solidFill>
                <a:latin typeface="Tahoma"/>
              </a:rPr>
              <a:t>Литература.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1. Здоровье:  Учебно - методическое  пособие  для учителей   1-11 классов / Под редакцией В.Н.Касаткина, Л.А.Щеплягиной. Ярославль: Аверс Пресс, 2003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2. Колесов Д. В., Маш Р. Д. Основы гигиены и санитарии: Учеб. пособие для 9—10 кл. сред. шк.: Факультатив. курс.- М.: Просвещение, 1989.— 192 с: ил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3. Коростелев Н. Б.     Шаг за шагом: Твой календарь здоровья.— М.: Мол. гвардия, 1984.— 95 с., ил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4. Козлов В. И. Береги   здоровье   смолоду. — М.: Физкультура    и     спорт, 1987. —32 с., ил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5. Ленюшкин А. И., Буров И. С.     Мальчику-подростку. — М.:  Медицина,  1981.-64 с., ил. — (Науч.-попул. мед. литература. Детям о здоровье.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6. Скрипкин Ю. К., Марьясис Е. Д.  Гигиена юноши. 2-е изд., перераб. — М.: Медицина, 1982. 80 с., ил. — (Науч.-попул. мед. литература. Детям о здоровье.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7. </a:t>
            </a:r>
            <a:r>
              <a:rPr b="0" lang="ru-RU" sz="1800" spc="-1" strike="noStrike" u="sng">
                <a:solidFill>
                  <a:srgbClr val="00ccff"/>
                </a:solidFill>
                <a:uFillTx/>
                <a:latin typeface="Tahoma"/>
                <a:hlinkClick r:id="rId1"/>
              </a:rPr>
              <a:t>http://www.tspu.tula.ru/res/fizvosp/hygiene/g_4htm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Тульский государственный педагогический университет им Л.Н. Толстого  Составитель доцент кафедры МПОФВ Артамонова Л.Л.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Гигиенические основы физического воспитания школьников Учебно-методические материалы для выполнения заданий педагогической практики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8. </a:t>
            </a:r>
            <a:r>
              <a:rPr b="0" lang="ru-RU" sz="1800" spc="-1" strike="noStrike" u="sng">
                <a:solidFill>
                  <a:srgbClr val="00ccff"/>
                </a:solidFill>
                <a:uFillTx/>
                <a:latin typeface="Tahoma"/>
                <a:hlinkClick r:id="rId2"/>
              </a:rPr>
              <a:t>http://upr.1september.ru/2005/22/14.htm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Марьяна БЕЗРУКИХ, Валентин СОНЬКИН, Валерия       Безобразова. Курсы повышения квалификации. Здоровьесберегающая школ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580" dur="indefinite" restart="never" nodeType="tmRoot">
          <p:childTnLst>
            <p:seq>
              <p:cTn id="581" dur="indefinite" nodeType="mainSeq">
                <p:childTnLst>
                  <p:par>
                    <p:cTn id="582" nodeType="clickEffect" fill="hold">
                      <p:stCondLst>
                        <p:cond delay="0"/>
                      </p:stCondLst>
                      <p:childTnLst>
                        <p:par>
                          <p:cTn id="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0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4" dur="5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9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8" dur="5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2" dur="500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0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6" dur="500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0" dur="500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6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4" dur="500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Задачи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пособствовать формированию представления о режиме дня, его основных компонентах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пособствовать обучению школьников умению  составить свой режим дня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одолжить формирование навыков работы с текстом, анализа, сравнения, обобщения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одолжить формирование умения слушать и слышать собеседника, учить коллективному сотрудничеству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опагандировать здоровый образ жизн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1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1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1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10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10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1. Постановка и решение учебных задач</a:t>
            </a:r>
            <a:br>
              <a:rPr sz="4400"/>
            </a:b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овременному школьнику постоянно не хватает времени. Процесс обучения в школе очень насыщенный. Бывают дни, когда и в школе все в порядке, и дома – школьник успел сходить в кино, прочитать интересную книгу и т. п. А бывают и другие дни. Например, в выходной день поздно встал, не успел на тренировку, за уроки взялся поздно вечером. Настроение плохое, и весь день испорчен. В таких случаях говорят, что  не соблюдаете режима дня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Что же такое режим дня? Реально ли выполнение строгого режим дня?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1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10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5ffff"/>
                </a:solidFill>
                <a:latin typeface="Tahoma"/>
              </a:rPr>
              <a:t>Режим дня</a:t>
            </a:r>
            <a:r>
              <a:rPr b="0" lang="ru-RU" sz="2800" spc="-1" strike="noStrike">
                <a:solidFill>
                  <a:srgbClr val="e5ffff"/>
                </a:solidFill>
                <a:latin typeface="Tahoma"/>
              </a:rPr>
              <a:t> - это распределение времени на все виды суточной деятельности и отдыха с учетом возраста, состояния здоровья и</a:t>
            </a:r>
            <a:br>
              <a:rPr sz="2800"/>
            </a:br>
            <a:r>
              <a:rPr b="0" lang="ru-RU" sz="2800" spc="-1" strike="noStrike">
                <a:solidFill>
                  <a:srgbClr val="e5ffff"/>
                </a:solidFill>
                <a:latin typeface="Tahoma"/>
              </a:rPr>
              <a:t>особенностей личности.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62" name="Picture 7" descr=""/>
          <p:cNvPicPr/>
          <p:nvPr/>
        </p:nvPicPr>
        <p:blipFill>
          <a:blip r:embed="rId1"/>
          <a:stretch/>
        </p:blipFill>
        <p:spPr>
          <a:xfrm>
            <a:off x="468360" y="2349360"/>
            <a:ext cx="3166920" cy="27370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8" descr=""/>
          <p:cNvPicPr/>
          <p:nvPr/>
        </p:nvPicPr>
        <p:blipFill>
          <a:blip r:embed="rId2"/>
          <a:stretch/>
        </p:blipFill>
        <p:spPr>
          <a:xfrm>
            <a:off x="3132000" y="3933720"/>
            <a:ext cx="3168720" cy="25196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9" descr=""/>
          <p:cNvPicPr/>
          <p:nvPr/>
        </p:nvPicPr>
        <p:blipFill>
          <a:blip r:embed="rId3"/>
          <a:stretch/>
        </p:blipFill>
        <p:spPr>
          <a:xfrm>
            <a:off x="5724360" y="2276640"/>
            <a:ext cx="2951280" cy="2736720"/>
          </a:xfrm>
          <a:prstGeom prst="rect">
            <a:avLst/>
          </a:prstGeom>
          <a:ln w="0">
            <a:noFill/>
          </a:ln>
        </p:spPr>
      </p:pic>
      <p:sp>
        <p:nvSpPr>
          <p:cNvPr id="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0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1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9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2. Изучение нового материала.</a:t>
            </a:r>
            <a:br>
              <a:rPr sz="4400"/>
            </a:b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рганизуется работа в группах по 5 человек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0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85880" y="285480"/>
            <a:ext cx="7943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Текст №1</a:t>
            </a:r>
            <a:br>
              <a:rPr sz="4400"/>
            </a:b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785520" y="928440"/>
            <a:ext cx="7972200" cy="480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spcBef>
                <a:spcPts val="34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Прочитайте предложенный текст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spcBef>
                <a:spcPts val="34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Найдите ответ на вопрос: «Какие факторы влияют на режим дня?»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spcBef>
                <a:spcPts val="34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Составьте схему «Основными компонентами режима дня школьника»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В основе режима дня лежит условно-рефлекторная деятельность. Со временем она приобретает характер динамического стереотипа, подготавливая организм к выполнению определенной деятельности в конкретное время и, значит, облегчает выполнение этой работы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Режим дня считается правильным, если в нем предусмотрено достаточно времени для всех видов деятельности  в соответствии с гигиеническим регламентом. Деятельность должна быть посильной для данного индивидуума, а отдых должен способствовать оптимальному восстановлению. 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          Определяется режим не только нашими жела­ниями, но и общественными требованиями. В определенные часы начинают и заканчивают работу учреждения, заводы, институты, школы, театры, магазины. И каждый человек, независимо от желания, дол­жен считаться с этими факторами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С ростом и развитием ребенка меняется ритм жизни, интересы, соответственно и  режим дня претерпевает изменения. Но в любой период жизни, рационально построенный режим  предупреждает утомление, укрепляет здоровье, способствует оптимальной работоспособности.</a:t>
            </a:r>
            <a:br>
              <a:rPr sz="1400"/>
            </a:b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           Основными компонентами режима дня школьника являются: сон, пребывание на свежем воздухе (прогулки), учеба в школе и дома, игровая деятельность по интересам, отдых по интересам, личная гигиена, питание, помощь по дому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0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 </a:t>
            </a:r>
            <a:br>
              <a:rPr sz="4400"/>
            </a:b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Текст №2</a:t>
            </a:r>
            <a:br>
              <a:rPr sz="4400"/>
            </a:b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1. Прочитайте предложенный текст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2. Найдите ответы на вопросы: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-Для чего необходим режим дня?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-К чему приводит нерационально организованный режим дня?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Ответы запишите в виде схем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Режим дня должен предусматривать достаточное время для необходимых элементов жизнедеятельности и обеспечивать на протяжении всего периода бодрствования высокую работоспособность. Правильно организованный режим дня сохраняет здоровье, создает условия для повышения учебной мотивации, способствует нормальному развитию ребенка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Установлено, что нерационально организованный режим приводит к резкому снижению работоспособности, развитию утомления и переутомления, что отрицательно сказывается на состоянии здоровья школьников. Взрослый человек довольно долго может справляться с отрицательными последствиями нарушений режима дня и не замечать ухудшения своего здоровья. Что же касается детей, то любое нарушение режима (нерегулярный прием пищи, сокращение времени сна, прогулок, выполнение домашних заданий в вечернее время и т.п.) может стать причиной задержки роста и нормального развития детского организма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0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500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500"/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Текст №3</a:t>
            </a:r>
            <a:br>
              <a:rPr sz="4400"/>
            </a:b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28400" y="714240"/>
            <a:ext cx="7972200" cy="545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1. Прочитайте предложенный текст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2. Запишите в тетради свой распорядок дня и сравните его с рекомендованным.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3. Сделайте выводы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Как правильно составить режим дня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Строгий режим — распорядок дня — является важнейшей предпосылкой для высокой трудоспособности, крепкого здоровья и хорошего самочувствия. По этому поводу М. М. Пришвин писал: «...не само здоровье дает долголе­тие, а правильное расходование его» [6]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Казалось бы, люди творческого труда: композито­ры, писатели — должны работать только тогда, когда у них вдохновение. А на самом деле тот же строгий ре­жим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«Моя система работы,— рассказывал великий рус­ский композитор П. И. Чайковский,— абсолютно регулярная, всегда в одни и те же часы, без всякого к са­мому себе послабления. Музыкальные мысли зарождаются во мне, как только, отвлекшись от чуждых моему труду соображений и забот, принимаюсь за работу... Работаю я от 10 часов утра' до часу пополудни и от пяти до восьми вечера. Поздним вечером или ночью я ни­когда не работаю» [3]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Tahoma"/>
              </a:rPr>
              <a:t>Режим дня считается правильным, если предусматривает достаточное время для необходимых элементов жизнедеятельности и обеспечивает на протяжении всего периода бодрствования высокую работоспособность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0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500"/>
                                        <p:tgtEl>
                                          <p:spTgt spid="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500"/>
                                        <p:tgtEl>
                                          <p:spTgt spid="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4T16:34:21Z</dcterms:created>
  <dc:creator>Dale</dc:creator>
  <dc:description/>
  <dc:language>en-US</dc:language>
  <cp:lastModifiedBy>LEGION</cp:lastModifiedBy>
  <dcterms:modified xsi:type="dcterms:W3CDTF">2015-11-27T10:46:02Z</dcterms:modified>
  <cp:revision>20</cp:revision>
  <dc:subject/>
  <dc:title>Режим дня  современного  школьника урок биологии в 8 классе</dc:title>
</cp:coreProperties>
</file>